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45A1-8C06-4014-8996-C6A57578E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92A1-1553-41F5-AF49-EB177D144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E8BA-2190-40E6-8719-AED2871D7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5518-7F07-496E-964B-606547279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AC985-999B-4547-82E1-07B342EF0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E36E9-A645-4EE6-97FB-41779778D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195CE-2E8B-43E1-A9AB-7B0A43809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79C6D-ADF2-47A9-9B88-05B2BF013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033AD-04FF-44BD-B847-641863B36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C44F9-CD0F-470D-B57F-D0B758FA7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668FC-FBED-456F-A279-29665E0C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FA05-EAE7-48AC-8E39-765168C6A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B0D5E-B202-45AD-866B-EC0DB7C1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6B3F3-21B4-4B80-B987-E2A9B8D8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B2FCB-6601-4090-82B2-AE8745C41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A8834-2569-4E43-9589-8220F85CA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E6571-CBAC-4630-BE4C-31D9B59CE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3E60-A375-4C6A-847D-0903BB175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B3F6-5E7E-4425-ADE3-D18D2874C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9370-0FB1-43AC-BD53-A1CD42BEC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8092-BCC4-4269-B90E-1364E3BB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06E6-20EA-4A7B-8F80-79A724AD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EDF4-D07B-44DE-B6C6-7CF99B2A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58DD-13AC-41D6-9BAE-BD9B4026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8640"/>
            <a:ext cx="8152920" cy="1599840"/>
            <a:chOff x="457200" y="99864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840" y="998640"/>
              <a:ext cx="572328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3760" y="1163520"/>
              <a:ext cx="5723280" cy="126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2360" y="1384200"/>
              <a:ext cx="572040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A886F-D098-48E1-86F5-716B688EF540}" type="slidenum">
              <a:rPr b="0" lang="en-CA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380880" y="2362320"/>
            <a:ext cx="8152920" cy="1447200"/>
            <a:chOff x="380880" y="2362320"/>
            <a:chExt cx="8152920" cy="1447200"/>
          </a:xfrm>
        </p:grpSpPr>
        <p:sp>
          <p:nvSpPr>
            <p:cNvPr id="47" name=""/>
            <p:cNvSpPr/>
            <p:nvPr/>
          </p:nvSpPr>
          <p:spPr>
            <a:xfrm>
              <a:off x="2810520" y="2362320"/>
              <a:ext cx="5723280" cy="144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37440" y="2511360"/>
              <a:ext cx="5723280" cy="114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696040" y="2710800"/>
              <a:ext cx="5720400" cy="749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80880" y="3004200"/>
              <a:ext cx="7918560" cy="14904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C78D6-DCB2-4915-B3AB-E50CAFCA109D}" type="slidenum">
              <a:rPr b="0" lang="en-CA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logo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6024600" cy="1873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676520" y="5028840"/>
            <a:ext cx="6324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Vás vítá na dnešní prezentac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TERVIEW č.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540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cc"/>
                </a:solidFill>
                <a:latin typeface="Times New Roman"/>
              </a:rPr>
              <a:t>Předmět interview: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 Interview o jedné oblasti činnosti 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firmy</a:t>
            </a:r>
            <a:br>
              <a:rPr sz="2800"/>
            </a:br>
            <a:r>
              <a:rPr b="0" i="1" lang="cs-CZ" sz="2800" spc="-1" strike="noStrike">
                <a:solidFill>
                  <a:srgbClr val="ffffcc"/>
                </a:solidFill>
                <a:latin typeface="Times New Roman"/>
              </a:rPr>
              <a:t>Cíl interview: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 Získat podrobnější informace o příjmu 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objednávek</a:t>
            </a:r>
            <a:br>
              <a:rPr sz="2800"/>
            </a:br>
            <a:r>
              <a:rPr b="0" i="1" lang="cs-CZ" sz="2800" spc="-1" strike="noStrike">
                <a:solidFill>
                  <a:srgbClr val="ffffcc"/>
                </a:solidFill>
                <a:latin typeface="Times New Roman"/>
              </a:rPr>
              <a:t>Datum a místo konání: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 26. listopadu 1999, sídlo 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firmy zadavatele</a:t>
            </a:r>
            <a:br>
              <a:rPr sz="2800"/>
            </a:br>
            <a:r>
              <a:rPr b="0" i="1" lang="cs-CZ" sz="2800" spc="-1" strike="noStrike">
                <a:solidFill>
                  <a:srgbClr val="ffffcc"/>
                </a:solidFill>
                <a:latin typeface="Times New Roman"/>
              </a:rPr>
              <a:t>Interview realizovali: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 Aleš Dvorák a Tomáš Mudra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25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 u="sng">
                <a:solidFill>
                  <a:srgbClr val="ffffff"/>
                </a:solidFill>
                <a:uFillTx/>
                <a:latin typeface="Times New Roman"/>
              </a:rPr>
              <a:t>Otázky a odpovědi:</a:t>
            </a:r>
            <a:br>
              <a:rPr sz="1600"/>
            </a:br>
            <a:br>
              <a:rPr sz="1600"/>
            </a:br>
            <a:r>
              <a:rPr b="1" lang="cs-CZ" sz="1600" spc="-1" strike="noStrike">
                <a:solidFill>
                  <a:srgbClr val="ffffff"/>
                </a:solidFill>
                <a:latin typeface="Times New Roman"/>
              </a:rPr>
              <a:t>Jakou formu u Vás může zákazník objednat zboží ?</a:t>
            </a:r>
            <a:br>
              <a:rPr sz="1600"/>
            </a:br>
            <a:r>
              <a:rPr b="0" i="1" lang="cs-CZ" sz="1600" spc="-1" strike="noStrike">
                <a:solidFill>
                  <a:srgbClr val="ffffff"/>
                </a:solidFill>
                <a:latin typeface="Times New Roman"/>
              </a:rPr>
              <a:t>Telefonem, E-Mailem, poštou nebo osobní návštěvou v sídle naší firmy.</a:t>
            </a:r>
            <a:br>
              <a:rPr sz="1600"/>
            </a:br>
            <a:br>
              <a:rPr sz="1600"/>
            </a:br>
            <a:r>
              <a:rPr b="1" lang="cs-CZ" sz="1600" spc="-1" strike="noStrike">
                <a:solidFill>
                  <a:srgbClr val="ffffff"/>
                </a:solidFill>
                <a:latin typeface="Times New Roman"/>
              </a:rPr>
              <a:t>Kolik objednávek zvládáte zpracovávat ?</a:t>
            </a:r>
            <a:br>
              <a:rPr sz="1600"/>
            </a:br>
            <a:r>
              <a:rPr b="0" i="1" lang="cs-CZ" sz="1600" spc="-1" strike="noStrike">
                <a:solidFill>
                  <a:srgbClr val="ffffff"/>
                </a:solidFill>
                <a:latin typeface="Times New Roman"/>
              </a:rPr>
              <a:t>Přibližně 30 za hodinu.</a:t>
            </a:r>
            <a:br>
              <a:rPr sz="1600"/>
            </a:br>
            <a:br>
              <a:rPr sz="1600"/>
            </a:br>
            <a:r>
              <a:rPr b="1" lang="cs-CZ" sz="1600" spc="-1" strike="noStrike">
                <a:solidFill>
                  <a:srgbClr val="ffffff"/>
                </a:solidFill>
                <a:latin typeface="Times New Roman"/>
              </a:rPr>
              <a:t>Vyhodnocujete nějakým způsobem objednávky, případně jak ?</a:t>
            </a:r>
            <a:br>
              <a:rPr sz="1600"/>
            </a:br>
            <a:r>
              <a:rPr b="0" i="1" lang="cs-CZ" sz="1600" spc="-1" strike="noStrike">
                <a:solidFill>
                  <a:srgbClr val="ffffff"/>
                </a:solidFill>
                <a:latin typeface="Times New Roman"/>
              </a:rPr>
              <a:t>Ne, ale chtěli bychom tuto možnost implementovat do našeho informačního systému.</a:t>
            </a:r>
            <a:br>
              <a:rPr sz="1600"/>
            </a:br>
            <a:br>
              <a:rPr sz="1600"/>
            </a:br>
            <a:r>
              <a:rPr b="1" lang="cs-CZ" sz="1600" spc="-1" strike="noStrike">
                <a:solidFill>
                  <a:srgbClr val="ffffff"/>
                </a:solidFill>
                <a:latin typeface="Times New Roman"/>
              </a:rPr>
              <a:t>Archivujete objednávky a jak dlouho do minulosti ?</a:t>
            </a:r>
            <a:br>
              <a:rPr sz="1600"/>
            </a:br>
            <a:r>
              <a:rPr b="0" i="1" lang="cs-CZ" sz="1600" spc="-1" strike="noStrike">
                <a:solidFill>
                  <a:srgbClr val="ffffff"/>
                </a:solidFill>
                <a:latin typeface="Times New Roman"/>
              </a:rPr>
              <a:t>Ano, jeden měsíc zpět.</a:t>
            </a:r>
            <a:br>
              <a:rPr sz="1600"/>
            </a:br>
            <a:br>
              <a:rPr sz="1600"/>
            </a:br>
            <a:r>
              <a:rPr b="1" lang="cs-CZ" sz="1600" spc="-1" strike="noStrike">
                <a:solidFill>
                  <a:srgbClr val="ffffff"/>
                </a:solidFill>
                <a:latin typeface="Times New Roman"/>
              </a:rPr>
              <a:t>Jaký je výstup objednávky resp. odkud kam putuje objednávka ?</a:t>
            </a:r>
            <a:br>
              <a:rPr sz="1600"/>
            </a:br>
            <a:r>
              <a:rPr b="0" i="1" lang="cs-CZ" sz="1600" spc="-1" strike="noStrike">
                <a:solidFill>
                  <a:srgbClr val="ffffff"/>
                </a:solidFill>
                <a:latin typeface="Times New Roman"/>
              </a:rPr>
              <a:t>Z obchodního oddělení do skladu, dále do oddělení distribuce. Potom všechny objednávky zpracováváme pomocí počítače.</a:t>
            </a:r>
            <a:br>
              <a:rPr sz="1600"/>
            </a:br>
            <a:br>
              <a:rPr sz="1600"/>
            </a:br>
            <a:r>
              <a:rPr b="1" lang="cs-CZ" sz="1600" spc="-1" strike="noStrike">
                <a:solidFill>
                  <a:srgbClr val="ffffff"/>
                </a:solidFill>
                <a:latin typeface="Times New Roman"/>
              </a:rPr>
              <a:t>Jak řešíte problém nevyřízených objednávek ?</a:t>
            </a:r>
            <a:br>
              <a:rPr sz="1600"/>
            </a:br>
            <a:r>
              <a:rPr b="0" i="1" lang="cs-CZ" sz="1600" spc="-1" strike="noStrike">
                <a:solidFill>
                  <a:srgbClr val="ffffff"/>
                </a:solidFill>
                <a:latin typeface="Times New Roman"/>
              </a:rPr>
              <a:t>Takové objednávky se ukládají do seznamu nevyřízených objednávek a postupně kontaktujeme zákazníky.</a:t>
            </a:r>
            <a:br>
              <a:rPr sz="1600"/>
            </a:br>
            <a:endParaRPr b="0" lang="en-US" sz="1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NALÝZA FIRM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0" y="228600"/>
          <a:ext cx="11658600" cy="7162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"/>
                    <a:ext cx="11658600" cy="716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762120" y="609480"/>
          <a:ext cx="7924680" cy="590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09480"/>
                    <a:ext cx="7924680" cy="59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CES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304920" y="2184480"/>
          <a:ext cx="8534160" cy="429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184480"/>
                    <a:ext cx="8534160" cy="42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609480" y="1378080"/>
            <a:ext cx="7086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Vstup</a:t>
            </a: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                Procesy</a:t>
            </a: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            </a:t>
            </a: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Výstup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2819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ATICE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ÁZE DAT/PROCES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1066680" y="2133720"/>
          <a:ext cx="7010640" cy="436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133720"/>
                    <a:ext cx="7010640" cy="43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KDO JSME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2120" y="2819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UPRAVENÁ MATICE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ÁZE DAT/PROCES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609480" y="1981080"/>
          <a:ext cx="7391520" cy="4604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81080"/>
                    <a:ext cx="7391520" cy="46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ÁVRH ZMĚ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44197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* osamostatnění oddělení účetnictví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* doplnit mzdovou politiku a personální plánování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* sklad a oddělení reklamací zahrnout pod obchodní úsek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* zajistit on-line kontrolu stavu zásob již při přijímání objednávek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logo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6024600" cy="18730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676520" y="5028840"/>
            <a:ext cx="6324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Vám přeje hezký a úspěšný de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logo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6024600" cy="1873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371600" y="5485680"/>
            <a:ext cx="632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poradenská firma zabývající se vaším Informačním systéme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3879360"/>
            <a:ext cx="5410440" cy="13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cc66"/>
                </a:solidFill>
                <a:latin typeface="Times New Roman"/>
              </a:rPr>
              <a:t>Zlatnická 785,Praha 8,180 0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cc"/>
                </a:solidFill>
                <a:latin typeface="Times New Roman"/>
              </a:rPr>
              <a:t>795 22 51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cc"/>
                </a:solidFill>
                <a:latin typeface="Times New Roman"/>
              </a:rPr>
              <a:t>info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@ </a:t>
            </a:r>
            <a:r>
              <a:rPr b="1" lang="cs-CZ" sz="2000" spc="-1" strike="noStrike">
                <a:solidFill>
                  <a:srgbClr val="ffffcc"/>
                </a:solidFill>
                <a:latin typeface="Times New Roman"/>
              </a:rPr>
              <a:t>radanadzlato.c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 KOHO PRACUJEME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62120" y="735840"/>
            <a:ext cx="1676160" cy="50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název firmy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sídlo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předmět činnosti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popis předmětu činnosti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cíle firmy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805320"/>
            <a:ext cx="6400800" cy="55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66ff"/>
                </a:solidFill>
                <a:latin typeface="Times New Roman"/>
              </a:rPr>
              <a:t>Odra,s.r.o.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66ff"/>
                </a:solidFill>
                <a:latin typeface="Times New Roman"/>
              </a:rPr>
              <a:t>Jindřišská 16, 111 50, Praha 1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66ff"/>
                </a:solidFill>
                <a:latin typeface="Times New Roman"/>
              </a:rPr>
              <a:t>nákup zboží za účelem jeho dalšího prodeje a prodej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66ff"/>
                </a:solidFill>
                <a:latin typeface="Times New Roman"/>
              </a:rPr>
              <a:t>virtuální obchodní dům na Internetu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66ff"/>
                </a:solidFill>
                <a:latin typeface="Times New Roman"/>
              </a:rPr>
              <a:t>*docílit nejširší nabídky na trhu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66ff"/>
                </a:solidFill>
                <a:latin typeface="Times New Roman"/>
              </a:rPr>
              <a:t>*vytvořit si dobré obchodní jméno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66ff"/>
                </a:solidFill>
                <a:latin typeface="Times New Roman"/>
              </a:rPr>
              <a:t>*maximalizace zisku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1676160"/>
            <a:ext cx="3505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organizační struktura firmy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19520" y="2362320"/>
            <a:ext cx="2819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19520" y="2362320"/>
            <a:ext cx="3124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2971800"/>
            <a:ext cx="3962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8120" y="2895480"/>
            <a:ext cx="4114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76520" y="2895480"/>
            <a:ext cx="58672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81080" y="2895480"/>
            <a:ext cx="5791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90920" y="2438280"/>
            <a:ext cx="3504960" cy="5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581280" y="2514240"/>
            <a:ext cx="1676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ředitelství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3429000"/>
            <a:ext cx="1752840" cy="54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66880" y="3429000"/>
            <a:ext cx="1752840" cy="54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553080" y="3429000"/>
            <a:ext cx="2133720" cy="54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3429000"/>
            <a:ext cx="1905120" cy="54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3504960"/>
            <a:ext cx="1447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skl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3504960"/>
            <a:ext cx="1447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obcho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00800" y="3504960"/>
            <a:ext cx="2514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péče o zákazník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95680" y="3504960"/>
            <a:ext cx="2057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technický úsek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4648320"/>
            <a:ext cx="1218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464832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marketing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057400" y="464832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19520" y="4648320"/>
            <a:ext cx="11430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81080" y="46483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nákup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19520" y="4654440"/>
            <a:ext cx="1218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účetnictví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4648320"/>
            <a:ext cx="2057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038480" y="464832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příjem</a:t>
            </a: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objednávek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91320" y="5334120"/>
            <a:ext cx="144756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67280" y="533412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distribuc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315200" y="5334120"/>
            <a:ext cx="129528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15200" y="533412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reklam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048120"/>
            <a:ext cx="0" cy="152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76520" y="3200400"/>
            <a:ext cx="5943600" cy="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4419720"/>
            <a:ext cx="3657600" cy="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77120" y="5105520"/>
            <a:ext cx="1600200" cy="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343400" y="3048120"/>
            <a:ext cx="0" cy="15228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3200400"/>
            <a:ext cx="0" cy="15228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05320" y="3200400"/>
            <a:ext cx="0" cy="15228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562720" y="3200400"/>
            <a:ext cx="0" cy="15228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0120" y="3200400"/>
            <a:ext cx="0" cy="15228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71600" y="4419720"/>
            <a:ext cx="0" cy="15228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438280" y="4419720"/>
            <a:ext cx="0" cy="15228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29000" y="4419720"/>
            <a:ext cx="0" cy="15228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29200" y="4419720"/>
            <a:ext cx="0" cy="15228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77120" y="5105520"/>
            <a:ext cx="0" cy="15228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077320" y="5105520"/>
            <a:ext cx="0" cy="15228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05320" y="4038480"/>
            <a:ext cx="0" cy="38124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7238880" y="4038480"/>
            <a:ext cx="0" cy="106704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TERVIEW č.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5105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cc"/>
                </a:solidFill>
                <a:latin typeface="Times New Roman"/>
              </a:rPr>
              <a:t>Předmět interview: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 První setkání s managementem 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firmy</a:t>
            </a:r>
            <a:br>
              <a:rPr sz="2800"/>
            </a:br>
            <a:r>
              <a:rPr b="0" i="1" lang="cs-CZ" sz="2800" spc="-1" strike="noStrike">
                <a:solidFill>
                  <a:srgbClr val="ffffcc"/>
                </a:solidFill>
                <a:latin typeface="Times New Roman"/>
              </a:rPr>
              <a:t>Cíl interview: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 Získat všeobecné informace o firmě, o 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její činnosti a problémech</a:t>
            </a:r>
            <a:br>
              <a:rPr sz="2800"/>
            </a:br>
            <a:r>
              <a:rPr b="0" i="1" lang="cs-CZ" sz="2800" spc="-1" strike="noStrike">
                <a:solidFill>
                  <a:srgbClr val="ffffcc"/>
                </a:solidFill>
                <a:latin typeface="Times New Roman"/>
              </a:rPr>
              <a:t>Datum a místo konání: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 19. listopadu 1999, sídlo 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firmy zadavatele</a:t>
            </a:r>
            <a:br>
              <a:rPr sz="2800"/>
            </a:br>
            <a:r>
              <a:rPr b="0" i="1" lang="cs-CZ" sz="2800" spc="-1" strike="noStrike">
                <a:solidFill>
                  <a:srgbClr val="ffffcc"/>
                </a:solidFill>
                <a:latin typeface="Times New Roman"/>
              </a:rPr>
              <a:t>Interview realizovali: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 Aleš Dvorák a Tomáš Mudra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57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 u="sng">
                <a:solidFill>
                  <a:srgbClr val="ffffff"/>
                </a:solidFill>
                <a:uFillTx/>
                <a:latin typeface="Times New Roman"/>
              </a:rPr>
              <a:t>Otázky a odpovědi:</a:t>
            </a:r>
            <a:br>
              <a:rPr sz="1400"/>
            </a:br>
            <a:br>
              <a:rPr sz="1400"/>
            </a:br>
            <a:r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Jaký je předmět činnosti Vaší firmy ?</a:t>
            </a:r>
            <a:br>
              <a:rPr sz="1400"/>
            </a:br>
            <a:r>
              <a:rPr b="0" i="1" lang="cs-CZ" sz="1400" spc="-1" strike="noStrike">
                <a:solidFill>
                  <a:srgbClr val="ffffff"/>
                </a:solidFill>
                <a:latin typeface="Times New Roman"/>
              </a:rPr>
              <a:t>Prodáváme multimédia po Internetu.</a:t>
            </a:r>
            <a:br>
              <a:rPr sz="1400"/>
            </a:br>
            <a:br>
              <a:rPr sz="1400"/>
            </a:br>
            <a:r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Prodáváte pouze pře Internet nebo také prostřednictvím jiných distribučních kanálů ?</a:t>
            </a:r>
            <a:br>
              <a:rPr sz="1400"/>
            </a:br>
            <a:r>
              <a:rPr b="0" i="1" lang="cs-CZ" sz="1400" spc="-1" strike="noStrike">
                <a:solidFill>
                  <a:srgbClr val="ffffff"/>
                </a:solidFill>
                <a:latin typeface="Times New Roman"/>
              </a:rPr>
              <a:t>Ne, pouze přes Internet.</a:t>
            </a:r>
            <a:br>
              <a:rPr sz="1400"/>
            </a:br>
            <a:br>
              <a:rPr sz="1400"/>
            </a:br>
            <a:r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Kde nakupujete zboží a které oddělení tuto činnost zajišťuje ?</a:t>
            </a:r>
            <a:br>
              <a:rPr sz="1400"/>
            </a:br>
            <a:r>
              <a:rPr b="0" i="1" lang="cs-CZ" sz="1400" spc="-1" strike="noStrike">
                <a:solidFill>
                  <a:srgbClr val="ffffff"/>
                </a:solidFill>
                <a:latin typeface="Times New Roman"/>
              </a:rPr>
              <a:t>U velkoobchodů. Touto činností se zabývá obchodní oddělení.</a:t>
            </a:r>
            <a:br>
              <a:rPr sz="1400"/>
            </a:br>
            <a:br>
              <a:rPr sz="1400"/>
            </a:br>
            <a:r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Jakým způsobem tvoříte nabídku Vašich výrobků ?</a:t>
            </a:r>
            <a:br>
              <a:rPr sz="1400"/>
            </a:br>
            <a:r>
              <a:rPr b="0" i="1" lang="cs-CZ" sz="1400" spc="-1" strike="noStrike">
                <a:solidFill>
                  <a:srgbClr val="ffffff"/>
                </a:solidFill>
                <a:latin typeface="Times New Roman"/>
              </a:rPr>
              <a:t>O to se stará technický úsek, který vytváří WWW stránky, na kterých si zákazníci objednávají zboží.</a:t>
            </a:r>
            <a:br>
              <a:rPr sz="1400"/>
            </a:br>
            <a:br>
              <a:rPr sz="1400"/>
            </a:br>
            <a:r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Které oddělení se zabývá tvorbou cen zboží, které prodáváte ?</a:t>
            </a:r>
            <a:br>
              <a:rPr sz="1400"/>
            </a:br>
            <a:r>
              <a:rPr b="0" i="1" lang="cs-CZ" sz="1400" spc="-1" strike="noStrike">
                <a:solidFill>
                  <a:srgbClr val="ffffff"/>
                </a:solidFill>
                <a:latin typeface="Times New Roman"/>
              </a:rPr>
              <a:t>Obchodní oddělení.</a:t>
            </a:r>
            <a:br>
              <a:rPr sz="1400"/>
            </a:br>
            <a:br>
              <a:rPr sz="1400"/>
            </a:br>
            <a:r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Popište prosím distribuci zboží k zákazníkovi.</a:t>
            </a:r>
            <a:br>
              <a:rPr sz="1400"/>
            </a:br>
            <a:r>
              <a:rPr b="0" i="1" lang="cs-CZ" sz="1400" spc="-1" strike="noStrike">
                <a:solidFill>
                  <a:srgbClr val="ffffff"/>
                </a:solidFill>
                <a:latin typeface="Times New Roman"/>
              </a:rPr>
              <a:t>Po zabalení zboží je posíláno poštou zákazníkovi.</a:t>
            </a:r>
            <a:br>
              <a:rPr sz="1400"/>
            </a:br>
            <a:br>
              <a:rPr sz="1400"/>
            </a:br>
            <a:r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Využíváte pouze služeb České pošty, s.p. ?</a:t>
            </a:r>
            <a:br>
              <a:rPr sz="1400"/>
            </a:br>
            <a:r>
              <a:rPr b="0" i="1" lang="cs-CZ" sz="1400" spc="-1" strike="noStrike">
                <a:solidFill>
                  <a:srgbClr val="ffffff"/>
                </a:solidFill>
                <a:latin typeface="Times New Roman"/>
              </a:rPr>
              <a:t>Ano, je to jediný způsob, jakým doručujeme zboží.</a:t>
            </a:r>
            <a:br>
              <a:rPr sz="1400"/>
            </a:br>
            <a:br>
              <a:rPr sz="1400"/>
            </a:br>
            <a:r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Jakým způsobem máte zajištěno vyřizování reklamací ?</a:t>
            </a:r>
            <a:br>
              <a:rPr sz="1400"/>
            </a:br>
            <a:r>
              <a:rPr b="0" i="1" lang="cs-CZ" sz="1400" spc="-1" strike="noStrike">
                <a:solidFill>
                  <a:srgbClr val="ffffff"/>
                </a:solidFill>
                <a:latin typeface="Times New Roman"/>
              </a:rPr>
              <a:t>Prostřednictvím telefonu a E-Mailu.</a:t>
            </a:r>
            <a:br>
              <a:rPr sz="1400"/>
            </a:br>
            <a:br>
              <a:rPr sz="1400"/>
            </a:br>
            <a:r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Který způsob komunikace se zákazníkem upřednostňujete ?</a:t>
            </a:r>
            <a:br>
              <a:rPr sz="1400"/>
            </a:br>
            <a:r>
              <a:rPr b="0" i="1" lang="cs-CZ" sz="1400" spc="-1" strike="noStrike">
                <a:solidFill>
                  <a:srgbClr val="ffffff"/>
                </a:solidFill>
                <a:latin typeface="Times New Roman"/>
              </a:rPr>
              <a:t>E-Mail.</a:t>
            </a:r>
            <a:br>
              <a:rPr sz="1400"/>
            </a:br>
            <a:endParaRPr b="0" lang="en-US" sz="1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2T10:32:22Z</dcterms:created>
  <dc:creator>Vratislav Šimáček</dc:creator>
  <dc:description/>
  <dc:language>en-US</dc:language>
  <cp:lastModifiedBy>Martin Prikryl</cp:lastModifiedBy>
  <dcterms:modified xsi:type="dcterms:W3CDTF">1999-12-10T11:22:16Z</dcterms:modified>
  <cp:revision>9</cp:revision>
  <dc:subject/>
  <dc:title>KDO JSME?</dc:title>
</cp:coreProperties>
</file>