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5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11.png" ContentType="image/png"/>
  <Override PartName="/ppt/media/image15.wmf" ContentType="image/x-wmf"/>
  <Override PartName="/ppt/media/image7.png" ContentType="image/png"/>
  <Override PartName="/ppt/media/image16.wmf" ContentType="image/x-wmf"/>
  <Override PartName="/ppt/media/image8.png" ContentType="image/png"/>
  <Override PartName="/ppt/media/image12.wmf" ContentType="image/x-wmf"/>
  <Override PartName="/ppt/media/image4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1BA31-224E-4AB9-B559-2EBC26AF83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5B5A-9A8A-4440-A2A1-41BF4BA5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29BE-FF24-456E-9359-9BB16EFD9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939FF-7C92-4A08-9AEC-845AAB22A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3E16-6489-421C-9B87-756A951D46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3B735-E032-46A8-8D43-2802FBF5D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BBF7B-ABF3-47C1-A85D-4D2A077B3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1C6D7-2550-425E-A4EA-74907D13F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DC706-E454-461D-99C4-60FAA3E38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751A4-BD49-4AB1-AFBB-51E0CAE2A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499AB-427B-41E5-86C8-B59FBEE56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5060-A671-431D-A4DB-415D66A1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DEC05A-FBC6-4FDF-BA77-D1EFF858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8EC71-C8E2-4851-B15C-45E795D91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6782E-5D6D-4A4A-8A34-4621513BBB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A5D06-48E3-41D3-8274-E6B00F2A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8D9EF-EAAE-4B3A-92EB-4DC30A2E28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213A0-AAD0-4AE5-9B5F-A759881856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70FDE-BF00-4E80-8CC7-D2D541D9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087C-05DE-4AE3-A2F3-A1FB269DD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228600"/>
            <a:ext cx="77724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CAB3-7009-4FA1-BC9E-2483C518C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81A80-B1CC-4F4B-8CDB-8320E4683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8CB32-9796-48AD-9F6E-2A1CB43D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A46D0-27BD-430C-B198-EFF8B7B78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8640"/>
            <a:ext cx="8152920" cy="1599840"/>
            <a:chOff x="457200" y="99864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840" y="998640"/>
              <a:ext cx="572328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3760" y="1163520"/>
              <a:ext cx="5723280" cy="12697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2360" y="1384200"/>
              <a:ext cx="572040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3F62F-4D23-4C93-860C-260CE23229E6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"/>
          <p:cNvGrpSpPr/>
          <p:nvPr/>
        </p:nvGrpSpPr>
        <p:grpSpPr>
          <a:xfrm>
            <a:off x="380880" y="2362320"/>
            <a:ext cx="8152920" cy="1447200"/>
            <a:chOff x="380880" y="2362320"/>
            <a:chExt cx="8152920" cy="1447200"/>
          </a:xfrm>
        </p:grpSpPr>
        <p:sp>
          <p:nvSpPr>
            <p:cNvPr id="47" name=""/>
            <p:cNvSpPr/>
            <p:nvPr/>
          </p:nvSpPr>
          <p:spPr>
            <a:xfrm>
              <a:off x="2810520" y="2362320"/>
              <a:ext cx="5723280" cy="1447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37440" y="2511360"/>
              <a:ext cx="5723280" cy="1148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696040" y="2710800"/>
              <a:ext cx="5720400" cy="749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108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10800000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80880" y="3004200"/>
              <a:ext cx="7918560" cy="14904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CA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0E7BC-2E39-4935-9236-36F2AABA1A8F}" type="slidenum">
              <a:rPr b="0" lang="en-CA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M.P.J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6324480" cy="37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pobočk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24" name=""/>
          <p:cNvGraphicFramePr/>
          <p:nvPr/>
        </p:nvGraphicFramePr>
        <p:xfrm>
          <a:off x="1066680" y="2133720"/>
          <a:ext cx="7010640" cy="3429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133720"/>
                    <a:ext cx="7010640" cy="342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7-20 zaměstnanců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aměstnanc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8153280" cy="4191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ede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6 vedoucích pracov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a dalších 11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1 poboč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7-20 zaměstnanc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lke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216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oučasná situ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ziti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bré jméno společnost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dobrá technická základn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jsou nutné další okamžité investic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lidský potenciál (kvalifikovaní pracovníci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oučasná situac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egativ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ysoká zadluženos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tížný přístup k finančním zdrojů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lesající obr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patná komunikace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rganizace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Obrat a zisk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652320" y="2081160"/>
          <a:ext cx="776952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2320" y="2081160"/>
                    <a:ext cx="776952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Zadluženos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655560" y="2081160"/>
          <a:ext cx="7761240" cy="4110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5560" y="2081160"/>
                    <a:ext cx="7761240" cy="41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Informační systém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2819160"/>
            <a:ext cx="7772400" cy="2819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žadavek na informační systé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yhlášení veřejné obchodní soutěž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výběr nejvhodnějšího kandidát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zká spolupráce na vytvoření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Komunikace vedení-pobočk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školící cen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lepšovací návr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Komunikace s partner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 automobilkam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 partnerskými autoservi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Vedení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lánování, účetnictví, personalistika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perační centrum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40000"/>
              </a:lnSpc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Pobočky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účetnictví, sklad, mzd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jednávky, faktury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žadavky na IS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Operační centrum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evidence vlastních vozid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avigování vozidel (odtahových i servisních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lupráce s ostatními autoservis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polupráce s automobilkami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skytované služby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69608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Kvalitní autorizovaný servis osobních vozi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dtahová služba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Měření emisí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95" name="FIAT" descr=""/>
          <p:cNvPicPr/>
          <p:nvPr/>
        </p:nvPicPr>
        <p:blipFill>
          <a:blip r:embed="rId1"/>
          <a:stretch/>
        </p:blipFill>
        <p:spPr>
          <a:xfrm>
            <a:off x="5181480" y="5638680"/>
            <a:ext cx="1676520" cy="576360"/>
          </a:xfrm>
          <a:prstGeom prst="rect">
            <a:avLst/>
          </a:prstGeom>
          <a:ln w="0">
            <a:noFill/>
          </a:ln>
        </p:spPr>
      </p:pic>
      <p:pic>
        <p:nvPicPr>
          <p:cNvPr id="96" name="OPELx" descr=""/>
          <p:cNvPicPr/>
          <p:nvPr/>
        </p:nvPicPr>
        <p:blipFill>
          <a:blip r:embed="rId2"/>
          <a:stretch/>
        </p:blipFill>
        <p:spPr>
          <a:xfrm>
            <a:off x="2819520" y="3886200"/>
            <a:ext cx="1550880" cy="1155600"/>
          </a:xfrm>
          <a:prstGeom prst="rect">
            <a:avLst/>
          </a:prstGeom>
          <a:ln w="0">
            <a:noFill/>
          </a:ln>
        </p:spPr>
      </p:pic>
      <p:pic>
        <p:nvPicPr>
          <p:cNvPr id="97" name="SKODA" descr=""/>
          <p:cNvPicPr/>
          <p:nvPr/>
        </p:nvPicPr>
        <p:blipFill>
          <a:blip r:embed="rId3"/>
          <a:stretch/>
        </p:blipFill>
        <p:spPr>
          <a:xfrm>
            <a:off x="990720" y="3886200"/>
            <a:ext cx="1218960" cy="1165320"/>
          </a:xfrm>
          <a:prstGeom prst="rect">
            <a:avLst/>
          </a:prstGeom>
          <a:ln w="0">
            <a:noFill/>
          </a:ln>
        </p:spPr>
      </p:pic>
      <p:pic>
        <p:nvPicPr>
          <p:cNvPr id="98" name="VW" descr=""/>
          <p:cNvPicPr/>
          <p:nvPr/>
        </p:nvPicPr>
        <p:blipFill>
          <a:blip r:embed="rId4"/>
          <a:stretch/>
        </p:blipFill>
        <p:spPr>
          <a:xfrm>
            <a:off x="4876920" y="3886200"/>
            <a:ext cx="1217520" cy="1177920"/>
          </a:xfrm>
          <a:prstGeom prst="rect">
            <a:avLst/>
          </a:prstGeom>
          <a:ln w="0">
            <a:noFill/>
          </a:ln>
        </p:spPr>
      </p:pic>
      <p:pic>
        <p:nvPicPr>
          <p:cNvPr id="99" name="LOGOJAGU" descr=""/>
          <p:cNvPicPr/>
          <p:nvPr/>
        </p:nvPicPr>
        <p:blipFill>
          <a:blip r:embed="rId5"/>
          <a:stretch/>
        </p:blipFill>
        <p:spPr>
          <a:xfrm>
            <a:off x="3429000" y="5562720"/>
            <a:ext cx="1600200" cy="841320"/>
          </a:xfrm>
          <a:prstGeom prst="rect">
            <a:avLst/>
          </a:prstGeom>
          <a:ln w="0">
            <a:noFill/>
          </a:ln>
        </p:spPr>
      </p:pic>
      <p:pic>
        <p:nvPicPr>
          <p:cNvPr id="100" name="LOGONISAN" descr=""/>
          <p:cNvPicPr/>
          <p:nvPr/>
        </p:nvPicPr>
        <p:blipFill>
          <a:blip r:embed="rId6"/>
          <a:stretch/>
        </p:blipFill>
        <p:spPr>
          <a:xfrm>
            <a:off x="533520" y="5486400"/>
            <a:ext cx="1218960" cy="905040"/>
          </a:xfrm>
          <a:prstGeom prst="rect">
            <a:avLst/>
          </a:prstGeom>
          <a:ln w="0">
            <a:noFill/>
          </a:ln>
        </p:spPr>
      </p:pic>
      <p:pic>
        <p:nvPicPr>
          <p:cNvPr id="101" name="bmw" descr=""/>
          <p:cNvPicPr/>
          <p:nvPr/>
        </p:nvPicPr>
        <p:blipFill>
          <a:blip r:embed="rId7"/>
          <a:stretch/>
        </p:blipFill>
        <p:spPr>
          <a:xfrm>
            <a:off x="6934320" y="3886200"/>
            <a:ext cx="1164960" cy="1170000"/>
          </a:xfrm>
          <a:prstGeom prst="rect">
            <a:avLst/>
          </a:prstGeom>
          <a:ln w="0">
            <a:noFill/>
          </a:ln>
        </p:spPr>
      </p:pic>
      <p:pic>
        <p:nvPicPr>
          <p:cNvPr id="102" name="FORD" descr=""/>
          <p:cNvPicPr/>
          <p:nvPr/>
        </p:nvPicPr>
        <p:blipFill>
          <a:blip r:embed="rId8"/>
          <a:stretch/>
        </p:blipFill>
        <p:spPr>
          <a:xfrm>
            <a:off x="7010280" y="5486400"/>
            <a:ext cx="1828800" cy="736560"/>
          </a:xfrm>
          <a:prstGeom prst="rect">
            <a:avLst/>
          </a:prstGeom>
          <a:ln w="0">
            <a:noFill/>
          </a:ln>
        </p:spPr>
      </p:pic>
      <p:pic>
        <p:nvPicPr>
          <p:cNvPr id="103" name="AUDI" descr=""/>
          <p:cNvPicPr/>
          <p:nvPr/>
        </p:nvPicPr>
        <p:blipFill>
          <a:blip r:embed="rId9"/>
          <a:stretch/>
        </p:blipFill>
        <p:spPr>
          <a:xfrm>
            <a:off x="1905120" y="5486400"/>
            <a:ext cx="1371600" cy="888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Elektronická pošt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Martin Přikryl: </a:t>
            </a:r>
            <a:r>
              <a:rPr b="0" lang="cs-CZ" sz="2800" spc="-1" strike="noStrike">
                <a:solidFill>
                  <a:srgbClr val="ffffcc"/>
                </a:solidFill>
                <a:latin typeface="Courier New"/>
              </a:rPr>
              <a:t>x</a:t>
            </a:r>
            <a:r>
              <a:rPr b="0" lang="en-US" sz="2800" spc="-1" strike="noStrike">
                <a:solidFill>
                  <a:srgbClr val="ffffcc"/>
                </a:solidFill>
                <a:latin typeface="Courier New"/>
              </a:rPr>
              <a:t>prim14@vse.c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o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</a:t>
            </a: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ěrský Pavel: </a:t>
            </a:r>
            <a:r>
              <a:rPr b="0" lang="cs-CZ" sz="2800" spc="-1" strike="noStrike">
                <a:solidFill>
                  <a:srgbClr val="ffffcc"/>
                </a:solidFill>
                <a:latin typeface="Courier New"/>
              </a:rPr>
              <a:t>xkobp03</a:t>
            </a:r>
            <a:r>
              <a:rPr b="0" lang="en-US" sz="2800" spc="-1" strike="noStrike">
                <a:solidFill>
                  <a:srgbClr val="ffffcc"/>
                </a:solidFill>
                <a:latin typeface="Courier New"/>
              </a:rPr>
              <a:t>@vse.c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Telefon</a:t>
            </a:r>
            <a:r>
              <a:rPr b="0" lang="en-US" sz="3600" spc="-1" strike="noStrike">
                <a:solidFill>
                  <a:srgbClr val="ffffcc"/>
                </a:solidFill>
                <a:latin typeface="Times New Roman"/>
              </a:rPr>
              <a:t>/fax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02/471 6001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tak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038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ffcc"/>
                </a:solidFill>
                <a:latin typeface="Times New Roman"/>
              </a:rPr>
              <a:t>Adresa</a:t>
            </a:r>
            <a:endParaRPr b="0" lang="en-US" sz="36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tradovická 72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raha 4 - Kamý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42 00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Konec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5400" spc="-1" strike="noStrike">
                <a:solidFill>
                  <a:srgbClr val="ffffcc"/>
                </a:solidFill>
                <a:latin typeface="Times New Roman"/>
              </a:rPr>
              <a:t>Děkujeme za pozornost</a:t>
            </a:r>
            <a:endParaRPr b="0" lang="en-US" sz="5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0</a:t>
            </a: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založení společnosti s r. o. v Klatovech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6 nových poboček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9933"/>
                </a:solidFill>
                <a:latin typeface="Times New Roman"/>
              </a:rPr>
              <a:t>1994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ffffcc"/>
                </a:solidFill>
                <a:latin typeface="Times New Roman"/>
              </a:rPr>
              <a:t>ocenění za nejlepší autoservis v České republi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7" name="OCENENI" descr=""/>
          <p:cNvPicPr/>
          <p:nvPr/>
        </p:nvPicPr>
        <p:blipFill>
          <a:blip r:embed="rId1"/>
          <a:stretch/>
        </p:blipFill>
        <p:spPr>
          <a:xfrm>
            <a:off x="2666880" y="2514600"/>
            <a:ext cx="4267440" cy="375912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33"/>
                </a:solidFill>
                <a:latin typeface="Times New Roman"/>
              </a:rPr>
              <a:t>1996-7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árůst konkurence, pokles zákaz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finanční problém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9933"/>
                </a:solidFill>
                <a:latin typeface="Times New Roman"/>
              </a:rPr>
              <a:t>1998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nový majitelé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řestěhování vedení do Prahy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požadavek na nový I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Poslání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2590560"/>
            <a:ext cx="7772400" cy="3733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komplexní služby pro majitele osobních motorových vozidel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ískání významu společnosti pro naše zákazníky - splněním všech přání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Cíle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obnovení dominantního postavení na trhu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ískat okruh stálých zákazník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snížení nákladů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zhodnocení nových investic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společnosti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1371600" y="2438280"/>
          <a:ext cx="6500880" cy="31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71600" y="2438280"/>
                    <a:ext cx="6500880" cy="31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11 poboček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cc66"/>
                </a:solidFill>
                <a:latin typeface="Times New Roman"/>
              </a:rPr>
              <a:t>Struktura vedení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701640" y="2514600"/>
          <a:ext cx="7893000" cy="298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640" y="2514600"/>
                    <a:ext cx="7893000" cy="298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838080" y="5867280"/>
            <a:ext cx="74678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ffffcc"/>
                </a:solidFill>
                <a:latin typeface="Times New Roman"/>
              </a:rPr>
              <a:t>Celkem 17 osob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746800" y="510372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ffffcc"/>
                </a:solidFill>
                <a:latin typeface="Arial"/>
              </a:rPr>
              <a:t>ing. Drozd Jaromír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4T06:50:40Z</dcterms:created>
  <dc:creator>Martin Přikryl</dc:creator>
  <dc:description/>
  <dc:language>en-US</dc:language>
  <cp:lastModifiedBy>Učebny</cp:lastModifiedBy>
  <dcterms:modified xsi:type="dcterms:W3CDTF">1998-10-08T09:01:54Z</dcterms:modified>
  <cp:revision>13</cp:revision>
  <dc:subject/>
  <dc:title>M.P.J</dc:title>
</cp:coreProperties>
</file>