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EAD-8912-4EE1-A223-FE0FADFC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74A-5633-4361-B155-4C33C2D7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E25-9133-430F-818C-0D9427F2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4C0-3F07-4CE8-A236-E494D393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04B-C75B-474B-9686-0439A091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067-52C5-486B-870F-36189A83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3CB4-6D87-435F-B9B4-3ED7E849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B3B7-727E-4EE1-B796-8AA60D7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4B68-AB7D-4039-95A6-442FBC0F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A326-E7E3-4AA2-8DB6-9A03D715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47E6-26B1-47E7-9F36-794D517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086-3D59-40F8-B1A7-0D1D0F2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56A6-5358-4ADE-A083-DD60FCF8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0069-EF2A-4DD2-BC34-46C002DF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910-0DC2-4685-B72B-E7A94574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9AFA-ECE6-4AF3-8AEF-D9296D65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3EDF-AD38-4176-96F4-866E5876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C22-EF60-48CE-A075-B1F53D52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676-5647-4742-A733-347520E9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658-DA3D-4A34-B3AD-103EA6B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67A-E338-4156-AED2-8B6992A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F4D-D9E9-4E9B-9FF2-F3B617D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FF8-F388-488F-B1D7-ACB7287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82A-5558-46A7-B2AE-9C54D327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4ECF-3D62-438C-AC35-C1C57FD419C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3262-2788-4265-B9EE-DC19ADD33F7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rovnání oficiálních Internetových stránek světových metropol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lastní vyhledava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ěž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íčová slova, výraz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oleovské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šířené (Turín, Amsterdam, 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ximitní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avo/levostranné rozšíř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matické skloňování/časová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2B7-AB9B-4052-9F62-F3E270F812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žnost konta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mail na osobní odděl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ntakty na úředníky, volené zástup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pravený formulá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asto jen na správce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ečně jen klasická pošta (Osl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F20-FB0A-42A6-9314-16A7549902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rafický vzhl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zajímavějš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méně povede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ělení do sek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72C-0530-4D0A-9111-BF4E463E7F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dkazy na jiné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1B5-B3E1-46F4-B104-268AD4D34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e a správa strán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elká variabilita (DHTML, Java Script, CSS, ASP, CGI, PHP, Perl, Fl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ráva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ho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FDF-79F8-4F27-8C2C-3CD8D5592A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ěrečné zhodnoc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2057400"/>
          <a:ext cx="74199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4199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104-8631-491A-8A2E-95A20DD3F2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zký 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o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běr mě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rčení oficiální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novení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hodnoc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věrečné srovn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6A1-A5E7-41E4-87D4-74F861CFDB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rland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l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urí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F06-B471-48BA-AE2C-60FA6D9242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jiné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384-BBC7-4302-B032-23399B461E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zykové verz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jazyk + anglič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urín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ockholm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ůzný obsah (zejména pro obyvate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809-CA50-4ED0-A1C3-CE9F80A52E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ruhy poskytovaných informac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yvatelé města, návštěvníci a podnik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íly v informacích pro podnikatele a stude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ždy informace pro obyvatele (Orlan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C87-1A2C-4732-A7C8-FF416620FE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kazy na jiné strá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řejné instituce (ambasády, konzuláty, kulturní institu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celáře cestovního ruch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prava (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životní prostřed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čas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hotely a restaur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CEC-D0C1-4DA9-A9CE-81100CE204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n-line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tšinou nízká úrove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ěstský časop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úřední formuláře ke staž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hled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vání v matrikách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ísto na parkování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170-E1C8-4BAB-B6D1-A8A6C03D0F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lán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mezená funkč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, odkaz, chy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ní stanic me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stitu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mátek, parky a zahr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škol, sportovní areá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FA4-A10A-4B24-8862-38FF932EFF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1-01-19T07:12:12Z</dcterms:modified>
  <cp:revision>16</cp:revision>
  <dc:subject/>
  <dc:title>Studie o možnostech využití Internetu pro prezentaci hl.m. Prahy</dc:title>
</cp:coreProperties>
</file>