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A5B-2FBB-42BC-8A82-4F28FDDD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7B7-771D-4202-8B14-FD1E8F8D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798-B8F4-46EA-90B5-DE50F2DF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C6B-78EB-4B1B-8031-ABE590E0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601-B163-40EC-8FBE-EEA6C08E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09B0-492D-4627-8497-C9D6190A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BAE-77DD-47A0-8580-F28404EC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4D15-8BFD-41B6-8C3A-8D5D1819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D315-234D-47B7-B9DF-5621C21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29EE-3DD8-46EF-B9A3-35B8CFD6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CE40-529E-44DC-8E08-4FAC28D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609-8FF6-469B-B18E-33DFC8B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0BDE-CB1A-4E60-812B-3C0F108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3CB1-1D6F-4948-9C7D-AD476E8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A72D-85F8-4EB5-8A82-0BE5B25C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DD38-F724-491D-A2B5-62BD5EEA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00C0-49A4-4284-9389-1D9158A0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B94-801D-4DEE-AFBD-FB772A5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EAC-693D-4B32-9B18-7460F13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026-6911-42AE-A675-59B73036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712-D6B5-421B-BCA2-C5A28F7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594-FDEC-4564-8BAF-942CA34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C75-32B5-4CBB-8FFE-8AA3845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18F-689C-4ACD-862A-E818E8F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tudie o možnostech využití Internetu pro prezentaci 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.m. Pra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, 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tr Kvasnička, Matěj Pr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íl stu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ůvody výbě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erlin, Vídeň, Helsinky, Kodaň, Londýn, Paříž, Lyon, Lisabon, Řím, Stockholm, Os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ojené stá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formace pro obyvatele města, turisty, podnikatele, studenty,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á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nejrůznější institu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jištěné nedostat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eho se vyvarov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ednotnost strá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unkčnost služ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0-11-03T11:43:59Z</dcterms:modified>
  <cp:revision>6</cp:revision>
  <dc:subject/>
  <dc:title>Studie o možnostech využití Internetu pro prezentaci hl.m. Prahy</dc:title>
</cp:coreProperties>
</file>