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28FC-C832-477B-8AE1-23213E8B03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disp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ed očima, vedle, nad hlavo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ptickým kabelem do o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ukav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i pohyb ru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pořit síly okamžité reakce a připravit na hlavní obrané sí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ti vnějšímu vvojenskému napad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lnění cílů samostatně i ve spolupráci se spojen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rmáda musí disponovat potřebnou technikou a počtem voják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 ministerstvo or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BBE-AC2D-4951-A055-C229D062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8B1-7A59-4DA8-87E7-3DC5671A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EBF-D578-44D2-8731-28D71BF0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898-5687-4AAA-8725-6EC023CF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FE49-2AE5-4E46-B17D-8EBFEC09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A0C3-667A-4E19-AED6-6422DC9B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C595-B1FE-4F18-9452-FD11200D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7E5B-71C5-4470-8966-DA131318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0B2E-3A17-4C3A-B9D1-3385791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1DCD-478A-4A3D-B693-707ED228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C350-1E75-4E8B-AC15-2685AF6E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5EC-5298-4B69-AD2F-5B404816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8E8F-3643-4395-8D5A-4175C2D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4CB3-5B30-4330-8AE6-61F0A61F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2443-B31F-4341-B40F-2478DB7A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D488-F67A-45FD-8335-BCDC09D3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1655-7492-4F21-98A6-2D8F9CFC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746-AEA7-4E8D-AC43-BE541BF3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97E-4AD7-4AA0-A4AA-3D9E9CC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54A-58CE-4BB8-9EB1-771EEB7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C0B-6B6E-4B55-81B8-D2085C27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E4E-8947-48B2-8CA5-1F99E927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1C0-17EA-496D-AF3C-29C7C93C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409-319F-4F1D-8F9E-6D46683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AE28-591E-4AA6-BD68-E717D7391D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D167-6250-4E99-A77A-D7324B9F7AD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ás na naší prezent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d ob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b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y prostorového vi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olog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eoskop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rba 3D ob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opár/ste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uální vno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hel pohl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ekvence obnovení displ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ční sled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plej (CRT, LCD) - rozli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prostředky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mače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drát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ové ruka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mulá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prostř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ací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hel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sign 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ost, odo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erodynam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y motorického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timalizace vybrané vari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motnost, ob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stranění kolizí/problémů s montá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výrobních postupů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sim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výrobu/ser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řidiče/pi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hody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u na prototy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rácení vývojového cyk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utí se chyb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chanické vla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ize pohyblivých d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ožnost montá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pší komunikace návrh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žky podle operačního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okamžit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rychl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ranné sí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okamžit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akce max. do 2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amžitá připrave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 trénink speciálních jedno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jenské sit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simu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rychl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x. do 3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konalé zvládnutí vojenské tech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 využití bojové techniky (simu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ní/vývoj vhodné bojové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lavní obranné sí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é nasazení do 18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síly rychlého nas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ba mostů/opev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ce (proto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vik stav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 manipulace s d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mulování davové psychó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ložena v září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í pracovní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ce pro vlád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pracování informačních stu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moderních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využití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ění cílů interoperability s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způsoby 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krizových situ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zkoušení před uzavřením kontr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énink řídících center/obsluh radarů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rné vý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á konce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členy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jeji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na nových projek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soké počáteční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zdroj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otéka VŠE: ABI i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stská knihovna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a Steve Aukstakalnis: „Reálně o virtuální realit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rtM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E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m. W. Chuchill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ha 3, 130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atel: Ladislav Červi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: 06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7 77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xcerl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vs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820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ec prezent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66760" y="4134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adavatel 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rana st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ržení či nastolení m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ení závazků (charta OSN, mezinárodní smlou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iminace nevojenských ohr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e spoj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istr RNDr. Vladimír Vetchý, CS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8576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Zadání IS:</a:t>
            </a:r>
            <a:br>
              <a:rPr sz="3600"/>
            </a:b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 systémů virtuální reality v armád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2561760"/>
            <a:ext cx="7665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bídka prostředků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mplementace pro využití v A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ové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lších oblastí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chozí podmín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ý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ýpočetní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 do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00 tisíc Kč, 1900 tisíc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íle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ž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vest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efe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jových schopností vojá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ky VR a sim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rtuální prot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ředky virtuální rea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or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 smy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R Helm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ůležitější prvek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oč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6:48:32Z</dcterms:created>
  <dc:creator>Martin</dc:creator>
  <dc:description/>
  <dc:language>en-US</dc:language>
  <cp:lastModifiedBy>Martin</cp:lastModifiedBy>
  <dcterms:modified xsi:type="dcterms:W3CDTF">1999-01-05T08:48:34Z</dcterms:modified>
  <cp:revision>17</cp:revision>
  <dc:subject/>
  <dc:title>Informační studie</dc:title>
</cp:coreProperties>
</file>